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CF6-DEF4-48D7-BE74-7E22C8DA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B2F-7EEA-4C91-9960-F596C0CC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EC2-FE4A-4345-899B-4B17E2E5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23F-4FC9-4C32-B204-5603EFCF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6551-92D7-47BC-8208-B70E8062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62AD-7BB4-4086-BBF1-0C03EB2E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6DCB-A6A0-47A3-90DE-ACBAD322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31EB-F214-433A-A3D3-7949D1EF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B464-F318-4CEF-93E9-3FF9831E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677F-2328-47B2-8B27-4A454A73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AA90-3772-4B18-8104-CE15EA83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FE9-1A29-4A4E-8CC5-57C542FA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A7DE-9FD2-48BC-9996-12FF656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A88C-06C8-4F88-942C-2EBCFF6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33AC-2775-442A-850F-98A38AD4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A9AA-DC5C-465D-827F-D01E41AE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2672-3F45-45F5-9779-DB1F6851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10F-BD39-4EAF-B451-7A522856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96C-7EA0-4E9F-A9E9-FD7A4DA9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2A3-DC78-4ECB-A365-D44F12F3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76B-062E-4F81-A304-312A0FAB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BAD-B901-4EA7-B7FC-9E6F0CEF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C9F-728E-41CC-8725-DFDADA66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EAF-5E3E-4652-BD09-B239388C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BBD9-FA92-4A68-A8AC-D074F8DEF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5E09-8750-4D99-8997-4ACBDD128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e42f"/>
                </a:solidFill>
                <a:latin typeface="Arial"/>
              </a:rPr>
              <a:t>How are symbols used to compare numbers?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e42f"/>
                </a:solidFill>
                <a:latin typeface="Arial"/>
              </a:rPr>
              <a:t>What sign do I use to show that both sides of an equation are equal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+3   =      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     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+5       =    3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e42f"/>
                </a:solidFill>
                <a:latin typeface="Arial"/>
              </a:rPr>
              <a:t>How do I show that the sides of an equation are not equal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 + 5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Symbol" charset="2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+4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2+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e42f"/>
                </a:solidFill>
                <a:latin typeface="Arial"/>
              </a:rPr>
              <a:t>What symbols can I use to compare numbers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5438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ing the “Less Than” Symbo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27432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3040" y="388620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ess than signs points to the smaller nu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44197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Symbol" charset="2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 is less than 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Symbol" charset="2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 is less than 3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e42f"/>
                </a:solidFill>
                <a:latin typeface="Arial"/>
              </a:rPr>
              <a:t>Introducing the greater than sign!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er than sign eats the bigger numb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02920" y="27432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3733920"/>
            <a:ext cx="565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Symbol" charset="2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 is greater than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 is greater than 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Let’s try some now!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07:49Z</dcterms:created>
  <dc:creator>West Shore  School District</dc:creator>
  <dc:description/>
  <dc:language>en-US</dc:language>
  <cp:lastModifiedBy>West Shore  School District</cp:lastModifiedBy>
  <dcterms:modified xsi:type="dcterms:W3CDTF">2008-10-30T20:14:38Z</dcterms:modified>
  <cp:revision>2</cp:revision>
  <dc:subject/>
  <dc:title>How are symbols used to compare numbers?</dc:title>
</cp:coreProperties>
</file>